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9CA-A1AE-4E3F-99D4-462C5035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740-696D-4F71-B03F-48A89C1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01C-4E6A-42F3-BFA9-508FE346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E91-9805-471E-AFB2-5B2C1898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8EA-2C92-41ED-8813-3BCD214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602-FEB8-433C-AC84-D3216C16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F6C-3EDE-4AA0-BCCD-7FCC2BE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5C4-3AD2-4D76-858E-C358B87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EDD-FB90-43B3-8243-44524884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65B-0398-4730-9D00-571333D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D23-0B53-467A-BE56-4334DF1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822-75DC-46F7-BC26-7BEB602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682-E7A8-4BE4-92CE-33B1486C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iltered Dive Positons 200304" descr=""/>
          <p:cNvPicPr/>
          <p:nvPr/>
        </p:nvPicPr>
        <p:blipFill>
          <a:blip r:embed="rId1"/>
          <a:stretch/>
        </p:blipFill>
        <p:spPr>
          <a:xfrm>
            <a:off x="5508720" y="216000"/>
            <a:ext cx="260496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Filtered Dive Positons 200405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234612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0" y="31536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57906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97520" y="3429000"/>
            <a:ext cx="234648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5840" y="123840"/>
          <a:ext cx="4286160" cy="673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123840"/>
                    <a:ext cx="428616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3:59:18Z</dcterms:created>
  <dc:creator>Daniel P Costa</dc:creator>
  <dc:description/>
  <dc:language>en-US</dc:language>
  <cp:lastModifiedBy>Daniel P Costa</cp:lastModifiedBy>
  <dcterms:modified xsi:type="dcterms:W3CDTF">2006-11-29T00:01:27Z</dcterms:modified>
  <cp:revision>2</cp:revision>
  <dc:subject/>
  <dc:title>Slide 1</dc:title>
</cp:coreProperties>
</file>